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A80-94F5-4FE5-9AD4-D242A5C0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D15-86BF-43CE-9DA3-D95215EA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76AD9-9159-4037-977F-65987A8C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60BB0-5663-4E9E-935D-CB47A8D1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16E54-9BC3-46DB-B084-DF605D55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1D8BE-FC67-48D7-B735-12BD37B3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CA644-F2C1-4033-9033-74135576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E485D-5A02-4E0C-A917-7E14178A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99EE5-7B6C-4206-BBDF-C9461735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56641-6EE8-42D9-8A16-B645B8B6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D1611-F0A2-49D8-A028-62C92427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9BEEA-86B0-4CC6-9E02-0400BB1F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DF0-A755-4621-9A68-8411C1D8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DE4F6-ED0D-4DF5-8C95-19B3228B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4D72D-A8A3-4BA3-AF7E-3FE212BB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73ACB-B4B7-4713-81C1-7B243BED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E24EB-DEE1-4EB6-9C86-CB91CAE2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95D91-A813-412F-B604-4329965C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EB726-47D3-45AE-8A09-585D27E6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DA5E2-5010-4511-99E4-6EB90FC6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6929D-F5F5-4BC6-A10E-61756300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35450-1296-48FF-B594-F78AB649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E7F2F-4052-4C4E-94EA-5AE70068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C25-2E9C-4A27-8BA4-42BEE363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B10FB-3E6C-4AC0-B505-789B02FE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D8D06-435B-4F43-A7DC-F0EDAE74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6E4EC-FC9A-4BF3-ABFB-D80C3F72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3ADB3-3F0D-414D-A41E-DFF1375B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F310E-C9A4-44DB-BF0E-A3CD496A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8CD54-B7EF-4F4B-842C-869B3C87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01BE7-3F47-459E-979D-81B9FFE6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E6DEB-BD30-4AF6-91BB-AD94315D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AF4FB-AD45-47B7-97D4-D4CB7454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520B8-E7E2-43F0-888A-98D7702B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1F39-BAAB-47E4-B3E1-25FDD355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2C693-687E-44CE-9C55-E045B014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757FB-0EF6-456E-9E08-1DF0A6F0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03B9D-ED59-4AE5-8532-8FD4E00F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83E4B-0A1B-4B15-8D53-62A9C044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56C6A-3915-4C93-B0A4-5169E5F2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4FC07-3BBA-493A-B0D1-4E5C883E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4F47F-4DF8-47C6-BE48-C8F82B54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D981D-5838-40FC-BFE3-0B5BAFE6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DBCDB-F018-4E96-A3B2-7A4855F3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A418A-821B-49AF-B03D-8DC98153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B187-1C3F-4659-BA69-6C68AABD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542F2-4B48-47F0-AC7A-6C30E7DD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6EA4F-8F97-483E-8620-ECF860BA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FFC30-27F8-4BE2-AB87-376ECB99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B33B0-ACD7-4254-9AF9-04821AED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65A49-0029-4670-8333-A37AA4D5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30F22-FA04-4E09-9E11-96126626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34DB5-D452-4924-B7BA-0D88B741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3A036-CD41-4906-8D6F-382E89C0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D1780-33A5-43BD-AA5B-DABA8EA1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CF281-DB1F-422F-ABEA-FAFBD750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E7C7-9AE7-4B89-A86E-B1D79FC5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53993F-F9BE-46DE-9BFB-75482800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E7473A-C6BA-4EA4-9C22-0D066A5C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BCD51-412E-4393-B7A6-C5FD0302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851EE-786B-4380-B73C-923DC020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A58C8-77FB-4FFB-8785-E4B17EE6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9274E-6FBB-4790-BB15-CEE05C5D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1F8A3-6147-48C7-AB35-D736F62B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8515D-AC35-44BE-B90D-6E4511F2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CB0F5-881A-407C-8777-9E512086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6C70D-7F43-4F37-82D8-F7BD0DD5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1560-F232-42F8-AC0A-30E600C7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36019-6DF9-4D40-ACB0-120F3DB6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651DC4-F5F8-4890-BA0D-2AA66D41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42231-1166-4EBC-AD56-4B305521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B26E2-8EEE-43FD-A5D6-B28C3FE1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0B328-275E-44BD-B973-FCA7F4C7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83666-2825-4CAA-8FCA-9BE72A62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F2B86-2172-4007-9F61-A6A448CF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84A48-8CB1-47C9-9DF9-2BA72D5A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DB4D0-998F-4ECD-A3E0-7B2A3369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2ACDE-99B7-4548-A11C-F91556CF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EE4E-4318-4191-A59B-85EF4953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C05D8-2644-4EF3-A028-63127B03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51281-C86F-4689-BB16-F84E9900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4735E-60E9-43D7-9A1A-569F3C5D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FC906-97D6-44E3-96D4-61AAD88C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791EA-80A6-40D6-8A43-E0A03F44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B3158-48ED-4B44-9353-9C22881A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A360CD-DFE9-446E-AB8F-64477CE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85D4C-0FFB-4ABC-87C4-C8AF63FB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FDCD3-6D4C-45CC-8DBA-4BA41703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F4B3E4-9CAB-437E-9C12-C0D4B621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8669-23FE-420C-8889-B8C1A4F0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A87B0-0056-4227-8ED5-24A4AEDB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1B711F-65EC-418D-A37D-F3810007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0D34E-AC09-44B3-88D5-C2D0A6ED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439A9-42EE-4014-829B-8A581706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5107FC-E914-4EC0-9BA1-65E96CD3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77EA4-4C29-4977-94C9-1E1AECE4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6CABDF-3AE7-4225-B01D-53ACC75D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750496-5E30-41C1-A1CC-691915B7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737FE-C069-4806-8DBA-97431656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E72CD7-A950-4821-A702-4C0E0CFA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E95C-5B4F-496C-8BC7-F0B1BEDF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5F117-FE66-41BB-8E9C-32F7CA3A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BCA7D0-B6E6-4EAE-A957-B633E5E1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33DE7B-86C2-4FB7-897D-6A1CCCF6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C5381-E9A7-4BC6-8872-B765C512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6F2CB-8CDA-40C0-B63E-3ECA2FBB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292A2-FE83-41E9-8FE9-A41BB09B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CED52-E61B-4B0F-934E-3AB0BE17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F86BB-ACE1-4B3A-99DC-88C41062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8E73E-301D-4137-9A98-78F1504F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3AD12B-66B7-4F77-AC47-629271EE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E701-F502-4144-9AEF-4442AB62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EBB2-1CBF-49E1-9C3F-12B6B1C4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5ABC81-134A-4736-9C57-67EC6ABA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97D45-2754-405E-9539-8AC76E76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6AB5D-0086-46C6-8ECC-89918EFC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E9738-694D-4A5A-8B0D-634FA64D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8311E-2648-455C-AF0C-D8F26CEA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0FEF1-1805-4FED-ADC6-BB4DCDF0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3F03D-789A-46CE-A341-1E8C7303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B4F6A-73E5-4C88-BE41-C0803146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C8ECFB-71F8-4CEF-9EF8-0367D303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47020D-EA1F-4483-912D-6D9F1220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1223-359C-41E8-8AEB-DDDB5EC3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11420-239A-4945-A4E9-12597AE3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6CCAFF-560B-4E1C-AA7D-1924D5D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6AAD29-2D72-47B7-B262-90B8A884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185B6-7BCF-45EC-B4F8-EE3EE8B1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E4DA2E-0D26-4965-A9DE-24BB95A2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5F1F5C-A56C-4454-B522-2F52A011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AE8F21-CCFF-4553-A007-67B53A23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86C09-883E-45B3-89B8-F2E00D70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33A6CD-C850-49D0-A90F-7E3C179B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0CF842-AB41-46F7-8E1E-E5DFC009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E689-FC6E-4CD2-9F6B-FB1B00CC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582992-534C-4049-A2B6-7EE0011C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FCBE5B-4284-4C4A-B90F-1FDCC1EC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25A6B-D4F2-4526-8CE8-3C53C918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961306-E799-4E8C-B212-D1F67BE9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E62DD-B55A-46F0-B431-4B489FAA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E692A-E50D-449A-AA8A-4B8C9ACD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18E608-2A45-4C54-8694-17756CC0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DF32DB-0894-4FB6-8C79-9D10294E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D003DD-29FD-47F4-A3D9-BD5C6415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32545-020B-4805-8335-D485C2DC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BD34-34BE-4465-A376-33D831DD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23E72-BEBA-45A9-8E42-1120F084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9E20D-84CD-4542-ADE3-31E8E737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BA253F-B74C-4AE0-AF4C-8A1FB329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745757-305D-4968-9E5F-33AAA9FA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BEFA16-B613-4CED-97AE-4D69FB05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6F26D7-C8E4-419A-B264-53829118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54CF08-83DB-4A9E-A1C6-1CD125EF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362CB6-4957-47F7-BA9E-B5481DD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3F526F-0D21-42C7-9FC4-3CFCCA86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DBE7EF-54D9-46D2-AD64-2721FE54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B1E5-88C6-4DB7-81FD-1593F561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B06176-DA71-442A-8270-1CB0FF0A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6F39A6-45E2-49CA-9B08-74A94136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0C7E68-D9AE-4FB0-95B7-9412D048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0BDF8-276E-4C94-9811-98AF3D6A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8A1D6-C334-4410-B040-4E1F794B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34CB78-81B9-4FC8-A688-7B64D7D9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69CC3C-502A-4EB0-9C20-1B20FACF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9B9682-DE65-4951-B46E-5FB069A3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2E2EFC-EC97-4772-9374-3F3AA3D9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5A14C-03C7-4204-B9B2-386A081D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7F448-28C9-4B91-B6FB-2D983531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58FF80-AA97-465A-82D9-35B0AA98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C8627-B9E3-47D7-B958-F2B2F818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86CC69-E48F-4490-B84D-CA23D24D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9046A-D660-4822-9A82-B9071409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9A7DB-4CA2-47DF-8949-9DEEF96D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71E0-DE4B-454E-B181-80768A9D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4296-7865-4971-B1EF-89B3EC51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908-0749-40C8-A6C5-238BF31A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1A3B6-21F1-4EAC-B940-71D30F84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26C5-E42B-4614-9594-CA9608A3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9D7D-3AC7-4E82-B3A9-3627DBA2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5A58-C7B3-4482-936F-F59C025D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059B-B37E-4F65-8458-B20A543A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8C95-503C-4EE7-B73E-5EE9DBF6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7A67-0379-447E-B995-C13839D7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C22C6-02DF-4EF6-8E8A-BA6F5CAE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D379-CC66-4DA8-8387-B9D47B48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2C329-C300-4016-B832-E2E3CC14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43B-F9BD-4CFE-A9AA-93F1F6B1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F0C1F-BAB8-44EE-ACE5-2250BAE6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35550-817E-48B0-A9A5-B7F4A735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FF192-67D8-4E2D-A308-70610A99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3B54F-3FEB-491E-830E-58F67876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62EA4-C137-4E7F-A89F-C08BFE0B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2E3E2-C72A-462B-8894-C7CD67E2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22D21-4686-4B4A-AF1E-B9305664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19FD5-4E5C-4319-81A1-DDDBEBF9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EE2C-382F-47CE-ABF4-942B024B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328B7-3D95-40F3-A329-F1F5B885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664-21DA-430F-A5DA-B78E03B7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4D227-FE01-4215-B11D-E6B12FB1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8B7B-05A1-4A78-B5FF-1C07034F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F83BE-D104-49D2-A663-92532B07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8928E-0501-4A62-B9D3-46732A4B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DBC53-3731-44FF-B008-55D6A859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A0699-AF90-4DA2-ACB7-F34652F3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519F3-7EC3-4C72-B65B-9622B386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D2EA7-1846-4E99-8591-A089BA42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2803E-74FF-42AA-B403-C696FE15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98F2A-065A-4818-98A7-2BA165D5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86F7-E984-421E-AF4A-D682B3B9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E6F3F-318B-4E06-81A1-EA27F289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EBF85-F218-464C-A463-5698642E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390CB-BD5F-4F2F-B823-18069334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585E8-37AF-486C-99F8-B43C30FB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EEE0B-6B65-40BC-910B-6F1C22B8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6EBC-9EA7-4494-B781-7372A576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DA93A-9207-4C31-BC48-E7E1FE37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01341-81E9-4F3E-A03A-D34383FA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7A311-DFAD-4288-B205-6A3238C2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8F78F-D4E0-4A95-8E18-8470EEB5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E03-9ACE-48A2-B7D0-9A93146B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B9BFE-DE1E-417B-8EFC-7AAE08D7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BDD16-39D5-4AD1-850B-C8CC1549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FDE04-48F2-41CD-BAAF-C2C1E8E6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5EB1C-0E95-4F0C-8291-05101240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412F6-BC54-471F-9F49-11F725C4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EF2F5-4FA1-463C-9B17-4DDFC548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69C4A-FF97-44B0-A5FF-1D507577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F24B3-6D2C-4D5F-A105-B6FEC343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A6CE0-B94C-4CA0-B9B6-4A727E86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54350-A7AE-46DE-929A-4629332F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AD3-676C-4A68-A1B2-0BE3B330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A4280-7E64-4889-8AC3-DED6BCBA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5F3D8-D1CD-4853-97F1-23B5916B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16117-0A23-442F-A631-328839E0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6A867-297C-430D-A02D-4BCA605E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A3D89-1FA3-4DBC-97A1-25D0A004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E791B-E5C3-4A76-B59B-2CBD5FDD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2C477-92A9-4F67-811E-CFBC511A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DAC70-F48F-4BD6-A983-E6F7C5EC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E78A5-F097-4B1B-B695-53118600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90D63-8C7A-4152-99E3-0A482645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9E6-7E8D-4BDE-8EAF-5B31D59B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BAAB6-36EF-4EAC-A6E7-9146F980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27281-E7A4-4FDB-A44A-0E3B85BE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840C0-6FD5-47FD-ADF6-67C2E7A1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8235C-5EFC-4B17-A060-A9B6E0B4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96765-3112-4C60-B3F8-A3456B8B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E3FF6-B6B1-4207-AA21-29F20CDA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3F134-4775-4914-B1FD-5C5C38F8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5D5AD-B127-4DF4-8CFC-D4213C65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92F7E-2ABF-4D1C-90BF-7CBF4A4B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9058F-76F9-40C8-A361-D554561A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4876-B23D-440B-94A4-7F80513610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2DF5-64BF-4019-947D-C0A373F7BC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BD25-4FDA-4336-94D4-7E4426E5E7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10C5-59DC-45AE-BB49-F671F9DB9D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9672-1FF8-437D-8B76-B650C2CCCC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4BD5-417B-4065-890E-AFFB943564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BAB9-8E15-43D4-ABF5-48903BA16F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E080-EC59-40EF-A8C7-DCE53077C3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2CDE-BCCC-467D-821A-BFF594AED5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DA8A-DF2B-431C-8864-C2773CA23F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AC5A-35B9-45D3-B532-9B62B4B6E6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26B5-56C9-4F60-9D0F-020A2EFE4D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7FD6-FCF8-4F5C-A154-3A1C9DD931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2FF4-4274-48C1-80E4-D6088432FC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0258-6BCC-4102-B932-49DE629192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7050-00A4-490C-8B16-3C6056E00B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B5BD-84F0-4638-9231-DD9F508992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0340-DD67-444B-8BD5-C42F9D2EFB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BB7A-1BED-4DF4-8235-85E77CEAB9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3C61-872E-498A-A69C-CD5F3C40E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DC26-8408-44FB-96B9-B028D51667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78C7-EAA1-47C7-8994-78152F2032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9D91-9D3E-47EA-A245-9B6A33C838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98F2-9C61-42B9-9F41-A336D3FA20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B3E8-7657-4182-9329-DCDF4CE607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C5F8-EC19-47DA-A1AF-65A47185A5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9ECE-43BF-49EA-9CB0-D337AF79C0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DD6F-269F-4820-BAF3-832EDA60C0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0BBB-269F-4A62-8325-3B29EA2C1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E24E-256B-4AF7-BF88-76FAACA4CC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F3E6-3798-4575-8CFD-09134F8C6D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EF2E-8975-4D62-BB4A-E4DA30C828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6D74-6C42-427F-B206-1DD692E74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F51E-6159-4711-AB82-0F2109976A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0441-FD9F-4CF0-99CE-DD5F43A2CF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6BCD-D696-4595-A65F-61DFFBFFDD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A845-0996-4E86-AB14-6976C605DB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C359-C222-4FA1-9B70-61B7AD412C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B434-6B9E-40D0-919B-15260C6BF5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C973-8537-47CA-B290-F6A8506459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810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04840" y="947880"/>
            <a:ext cx="8734320" cy="4962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356000" y="213372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518080" y="2646360"/>
            <a:ext cx="33984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60432" descr=""/>
          <p:cNvPicPr/>
          <p:nvPr/>
        </p:nvPicPr>
        <p:blipFill>
          <a:blip r:embed="rId5"/>
          <a:stretch/>
        </p:blipFill>
        <p:spPr>
          <a:xfrm>
            <a:off x="1816200" y="538020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27" name="图片 60433" descr=""/>
          <p:cNvPicPr/>
          <p:nvPr/>
        </p:nvPicPr>
        <p:blipFill>
          <a:blip r:embed="rId6"/>
          <a:stretch/>
        </p:blipFill>
        <p:spPr>
          <a:xfrm>
            <a:off x="5905440" y="5367240"/>
            <a:ext cx="16560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8858160" cy="3429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21607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826920" y="3016080"/>
            <a:ext cx="216072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826920" y="4178160"/>
            <a:ext cx="216072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826920" y="4581360"/>
            <a:ext cx="2160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147600" y="1757520"/>
            <a:ext cx="8848800" cy="334296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58374" descr=""/>
          <p:cNvPicPr/>
          <p:nvPr/>
        </p:nvPicPr>
        <p:blipFill>
          <a:blip r:embed="rId2"/>
          <a:stretch/>
        </p:blipFill>
        <p:spPr>
          <a:xfrm>
            <a:off x="2397240" y="3270240"/>
            <a:ext cx="1655640" cy="37620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58375" descr=""/>
          <p:cNvPicPr/>
          <p:nvPr/>
        </p:nvPicPr>
        <p:blipFill>
          <a:blip r:embed="rId3"/>
          <a:stretch/>
        </p:blipFill>
        <p:spPr>
          <a:xfrm>
            <a:off x="2401920" y="4532400"/>
            <a:ext cx="165564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3:20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